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962E-348A-49BB-8F62-6268D25E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7C42-6570-47ED-966A-1D87D326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1EF6-E7D1-4927-8805-ED3C40A5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C047-6D55-4AFB-B40A-7FFCB8B4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AA9-97F9-4982-BCE3-3FE853A1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D711-0328-4021-8808-599C210F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0B64-FC94-4E91-86CE-7D1BFA3F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8D7-1ED7-437A-B5A9-5D434852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D5B4-59A9-459E-A8F4-8443C6C7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D38-6B83-4283-B7EC-51F63BF9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470D-9A09-480F-8BE3-E5BBEF05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BC10-DFE4-4753-B8B8-9A34D83B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C781-3D4C-4C7F-9B57-444EE586F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hinapotteryonline.com/wp-content/uploads/2010/09/HAN-DYNASTY-A-RARE-LARGE-PAINTED-POTTERY-FIGURE-OF-A-TORTOISE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aurashefler.net/arthistory2010/wp-content/uploads/2010/07/Western_Han_Chinese_Silk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ds.yahoo.com/_ylt=A0PDoS6OwJtNcUsAESujzbkF/SIG=12qeg941d/EXP=1302081806/**http%3A//farm3.static.flickr.com/2680/4474429702_cb738eb6de_z.jpg%3Fzz=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N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2048040"/>
            <a:ext cx="4953240" cy="3485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86400" y="1981080"/>
            <a:ext cx="35434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80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 206 BCE – 2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295280"/>
            <a:ext cx="533376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ismograph which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ed earthquak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here they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uld rush supplies t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the people and sen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diers to the earthqua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to keep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105520"/>
            <a:ext cx="8001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ism – strong rulers and strict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ucianism – ruler was like a good fa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e set a good 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Chinese seismograph"/>
          <p:cNvPicPr/>
          <p:nvPr/>
        </p:nvPicPr>
        <p:blipFill>
          <a:blip r:embed="rId1"/>
          <a:stretch/>
        </p:blipFill>
        <p:spPr>
          <a:xfrm>
            <a:off x="5410080" y="990720"/>
            <a:ext cx="3576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304920"/>
            <a:ext cx="784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 most were farmers, lived in mud homes with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ched roofs, work was done by hand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, wore simple rough clothing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dals, ate steamed wheat and millet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rth), rice (south), dumplings, fish, ver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meat, ginger, garlic, onions, were n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15000" y="2971800"/>
            <a:ext cx="2716200" cy="3886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View Image"/>
          <p:cNvPicPr/>
          <p:nvPr/>
        </p:nvPicPr>
        <p:blipFill>
          <a:blip r:embed="rId2"/>
          <a:stretch/>
        </p:blipFill>
        <p:spPr>
          <a:xfrm>
            <a:off x="990720" y="3809880"/>
            <a:ext cx="411480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80880"/>
            <a:ext cx="7848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 1 in 10 lived in cities, cities were neatly la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and were centers of government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, and trade,  poor lived in cl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ing and had gangs, rich lived in bi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rated homes and wore fine cloth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plenty of entertainment – musicians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glers, acrob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3324240" cy="3414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2252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295280"/>
            <a:ext cx="2720880" cy="3200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457200"/>
            <a:ext cx="5410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jor trade route in which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rs exchanged China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k for “western” goods su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glassware and g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505320"/>
            <a:ext cx="617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men – agents who w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the buyer and seller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d on most of the Silk Ro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so that the secrets of sil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would be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762120"/>
            <a:ext cx="48769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 – used herb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, and acupun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paper, except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 and writing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d first diction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ncreased the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smo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4038480"/>
            <a:ext cx="1743120" cy="2438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50292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iod of warfare from 220 – 58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3132407_med.jpg"/>
          <p:cNvPicPr/>
          <p:nvPr/>
        </p:nvPicPr>
        <p:blipFill>
          <a:blip r:embed="rId3"/>
          <a:stretch/>
        </p:blipFill>
        <p:spPr>
          <a:xfrm>
            <a:off x="6095880" y="609480"/>
            <a:ext cx="27226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00:55:09Z</dcterms:created>
  <dc:creator>gehadde</dc:creator>
  <dc:description/>
  <dc:language>en-US</dc:language>
  <cp:lastModifiedBy>gehadde</cp:lastModifiedBy>
  <dcterms:modified xsi:type="dcterms:W3CDTF">2012-03-26T13:08:23Z</dcterms:modified>
  <cp:revision>15</cp:revision>
  <dc:subject/>
  <dc:title>HAN DYNASTY</dc:title>
</cp:coreProperties>
</file>